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4F5-4CEE-4C85-8BB2-F9DC59DF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CCC-28A0-4DA0-B1C2-326D627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C3C-23DD-44C3-976A-CFF935E4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4BE-5B42-484A-8F00-D7707D9B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A41E-A2F2-47B0-98D7-E00CA9E6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F5E1-F725-4FC1-9AC5-93DF46B2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70F3-7120-4F37-BF46-D50F01F7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C44F-7A19-4A60-8575-9EC1A1C5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BF0E-445D-4659-B2B7-91811081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241B-ABC4-49C9-8754-E71354BE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3ADC-C385-4D67-BA36-8C50452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A47-F482-42A6-8067-F3CF47E7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EAF8-BE97-4CC1-80D6-4039FAD3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5879-7B40-49C9-8E97-04A63CCF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14F8-E3C0-4165-B383-5667BE47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1E3D-88EA-42F1-97AF-CBFF2D30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3C97-4675-4CA5-B8A2-CF43F38F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FF4-46E1-4767-9CFC-709AF84C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B6A-0CCC-4404-9F3C-2EA203C6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726-74A5-4BF9-9031-806C54D2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F2A-EB00-4E16-A00F-84E567C9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918-D63C-4EA3-8B76-6D49C4BB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5AD-4423-4381-B966-0922238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3E0-8045-4ED6-831F-CA334705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F0C8-8761-4DC4-A28F-B70D39F2C282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8562-5B2F-4376-AC82-818CB70EE1A3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1B1C-F83D-4296-80DA-A7D1809C21A8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A5AC-F051-46B7-A233-D9A7D9C569FF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43A0-6C56-49A8-BFF7-2EFA15131AF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B8D565C-693D-4B5E-AE5D-CDC911DCC799}" type="datetime3">
              <a:rPr lang="en-US"/>
              <a:t>July 29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D5E-BB7F-4430-A8AE-DE3D8889BB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31C9C-9BC8-494E-9AD6-5C80EB191DB3}" type="datetime3">
              <a:rPr lang="en-US"/>
              <a:t>July 29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E75-0E61-497E-8BCD-D12443577C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41053-0AD4-4149-A712-98E2C4425360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1D5-366C-4B97-8F40-5E7BA05D75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6895F-6487-46AF-BAD3-E854ACFBDD1D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FC5-CBC1-476B-8943-6031F73FF3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1DEEC-687E-4AE3-B563-E15D0DDEBB4B}" type="datetime3">
              <a:rPr lang="en-US"/>
              <a:t>July 29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E5B-B6D6-46DF-B374-B8D02C0F32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93F4C-A84F-4E45-9A66-3EC0A7CF1B3F}" type="datetime3">
              <a:rPr lang="en-US"/>
              <a:t>July 29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AB1-299A-440B-9E45-821EB085E2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BC308-2324-4868-A33B-B2C250387A82}" type="datetime3">
              <a:rPr lang="en-US"/>
              <a:t>July 29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E59-BD47-4356-AFC4-153E7D29611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74C35-364A-4952-940B-BACCC3BA415E}" type="datetime3">
              <a:rPr lang="en-US"/>
              <a:t>July 29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